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3A6-F0BC-4D4F-8517-C43863A3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B2A-7482-4ADB-829B-B05108B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25C-EA08-4647-9353-7C127736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97B-9C20-45CA-B844-20FF2266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8FC-1C48-48C6-8607-EE6FF62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D7B-AEC0-4DB3-B1FE-48F37320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403-7DE6-4294-83A8-2C889EB4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EB8-525B-4A9D-BD27-6FB0E6CB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F46-6038-475B-90F1-43C182B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1D3-21F6-42E6-AD4A-8572591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631-A9FD-4D9F-87C6-01B942B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810-ECCF-444D-97CF-4A62436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35E2-BF7F-470F-A8D5-8CF2315AD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609480" y="990720"/>
            <a:ext cx="3276720" cy="2971800"/>
            <a:chOff x="609480" y="990720"/>
            <a:chExt cx="3276720" cy="297180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0" t="0" r="1249" b="22001"/>
            <a:stretch/>
          </p:blipFill>
          <p:spPr>
            <a:xfrm>
              <a:off x="609480" y="990720"/>
              <a:ext cx="3276720" cy="18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2"/>
            <a:srcRect l="0" t="46001" r="1249" b="4998"/>
            <a:stretch/>
          </p:blipFill>
          <p:spPr>
            <a:xfrm>
              <a:off x="609480" y="2815920"/>
              <a:ext cx="3276720" cy="11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6"/>
          <p:cNvSpPr/>
          <p:nvPr/>
        </p:nvSpPr>
        <p:spPr>
          <a:xfrm>
            <a:off x="1219320" y="838080"/>
            <a:ext cx="19810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dc.dlr.de/a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OS Atmospheric Composition Por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rcRect l="24038" t="23669" r="16051" b="4143"/>
          <a:stretch/>
        </p:blipFill>
        <p:spPr>
          <a:xfrm>
            <a:off x="228600" y="4114800"/>
            <a:ext cx="2590920" cy="1951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7" name="Picture 3" descr=""/>
          <p:cNvPicPr/>
          <p:nvPr/>
        </p:nvPicPr>
        <p:blipFill>
          <a:blip r:embed="rId4"/>
          <a:stretch/>
        </p:blipFill>
        <p:spPr>
          <a:xfrm>
            <a:off x="4800600" y="990720"/>
            <a:ext cx="2611440" cy="182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8" name="Picture 4" descr=""/>
          <p:cNvPicPr/>
          <p:nvPr/>
        </p:nvPicPr>
        <p:blipFill>
          <a:blip r:embed="rId5"/>
          <a:srcRect l="25001" t="83002" r="36877" b="7001"/>
          <a:stretch/>
        </p:blipFill>
        <p:spPr>
          <a:xfrm>
            <a:off x="4800600" y="2819520"/>
            <a:ext cx="2362320" cy="38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6"/>
          <a:srcRect l="0" t="23904" r="0" b="0"/>
          <a:stretch/>
        </p:blipFill>
        <p:spPr>
          <a:xfrm>
            <a:off x="4648320" y="3733920"/>
            <a:ext cx="2819160" cy="196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0" name="Rectangle 9"/>
          <p:cNvSpPr/>
          <p:nvPr/>
        </p:nvSpPr>
        <p:spPr>
          <a:xfrm>
            <a:off x="1671480" y="5291280"/>
            <a:ext cx="2819520" cy="13665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browsing data from distributed sources (e.g., DLR, NASA GES, Giovanni and DataFed) using OGC WMS and W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308640" y="5295960"/>
            <a:ext cx="266724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initiating displaying via OGC WMS time filtered and aggregated gridded data calculated by DataF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6172200" y="2057400"/>
            <a:ext cx="2819520" cy="121932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initiating and displaying via OGC WMS  the results of a grid difference calculated by NASA Giovan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03:19Z</dcterms:created>
  <dc:creator>sf</dc:creator>
  <dc:description/>
  <dc:language>en-US</dc:language>
  <cp:lastModifiedBy>sf</cp:lastModifiedBy>
  <dcterms:modified xsi:type="dcterms:W3CDTF">2011-01-05T14:26:06Z</dcterms:modified>
  <cp:revision>1</cp:revision>
  <dc:subject/>
  <dc:title>CEOS Atmospheric Composition Portal</dc:title>
</cp:coreProperties>
</file>